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E741-EF7B-483E-AD5A-4B753905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5E8F-CCD2-49D8-BBF5-B8F45F73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ECC6-B831-4676-AF66-C0431BED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CD4D-E5EE-4D90-ABF1-ED3E5605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C7CF-0D0F-4A9D-8030-74B3BD95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4C0C-F446-43A6-A68E-12AF6C85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AD33-FED1-4A1D-A2E0-3E943F1C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C6E-749D-4CFF-860C-234564C6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07A7-895F-4758-AEBC-C47D8BB2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BFC7-4A4F-4848-8736-0D8AD8FF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F567-E785-4436-846F-656C5CF7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7D9B-338C-493A-BE96-A05FAC18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6B77-0BBA-4361-B021-39D411ED2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5200" y="-228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2.2 – Energy Flow in Eco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www.marietta.edu/~biol/biomes/energy_flow.gif"/>
          <p:cNvPicPr/>
          <p:nvPr/>
        </p:nvPicPr>
        <p:blipFill>
          <a:blip r:embed="rId1"/>
          <a:stretch/>
        </p:blipFill>
        <p:spPr>
          <a:xfrm>
            <a:off x="1143000" y="1066680"/>
            <a:ext cx="6858000" cy="55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9" descr=""/>
          <p:cNvPicPr/>
          <p:nvPr/>
        </p:nvPicPr>
        <p:blipFill>
          <a:blip r:embed="rId1"/>
          <a:stretch/>
        </p:blipFill>
        <p:spPr>
          <a:xfrm>
            <a:off x="304920" y="0"/>
            <a:ext cx="7467480" cy="64832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7696080" y="838080"/>
            <a:ext cx="12193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d5613"/>
                </a:solidFill>
                <a:latin typeface="Calibri"/>
              </a:rPr>
              <a:t>This food web represents a terrestrial ecosystem that could be found in British Columb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tiee.ecoed.net/vol/v3/experiments/soil/img/soil_food_web%5BHR%5D.jpg"/>
          <p:cNvPicPr/>
          <p:nvPr/>
        </p:nvPicPr>
        <p:blipFill>
          <a:blip r:embed="rId1"/>
          <a:stretch/>
        </p:blipFill>
        <p:spPr>
          <a:xfrm>
            <a:off x="990720" y="28440"/>
            <a:ext cx="761976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nergy Flow and Energy Loss in Ecosystems: Food Pyram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od pyramids show the changes in available energy from one trophic level to another in a food ch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enters at the first trophic level (producers), where there is a large amount of biomass and therefore much ener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takes large quantities of organisms in one trophic level to meet the energy needs of the next trophic lev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2514600" y="3429000"/>
            <a:ext cx="3886200" cy="3013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7200" y="304920"/>
            <a:ext cx="8229600" cy="32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level loses large amounts of the energy it gathers through basic processes of liv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 – 90 percent of energy taken in by consumers is used in chemical reactions in the body and is lost as thermal ener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very little energy left over for growth or increase in biom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533520" y="76320"/>
            <a:ext cx="8076960" cy="62625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1066680" y="63244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d5613"/>
                </a:solidFill>
                <a:latin typeface="Calibri"/>
              </a:rPr>
              <a:t>Ninety percent of this mouse’s food energy is used to maintain its life fun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www.science-art.com/gallery/31/31_7112003035.jpg"/>
          <p:cNvPicPr/>
          <p:nvPr/>
        </p:nvPicPr>
        <p:blipFill>
          <a:blip r:embed="rId1"/>
          <a:stretch/>
        </p:blipFill>
        <p:spPr>
          <a:xfrm>
            <a:off x="76320" y="90360"/>
            <a:ext cx="6172200" cy="6691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800240" y="761760"/>
            <a:ext cx="4343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1119960" indent="-223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er trophic levels have much larger populations than upper leve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shows the importance of  maintaining large, biodiverse populations at the lowest levels of the food pyrami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od pyramids are also known as ecological pyram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0574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cological pyramids may show biomass, population, or energy numbe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amount of life an ecosystem can contain is based on the bottom level of the ecological pyramid, where producers capture energy from the Su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ch level in the energy pyramid = a loss of 90 percent of total energy availab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nergy flow in eco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mass is the total mass of all living things in a given ar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mass can also refer to the mass of a particular type of matter, such as organic materials used to produce biofu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mass is generally measured in 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in an organism’s niche, the organism interacts with the ecosystem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840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taining food from the eco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840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ibuting energy to the eco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ow energy flows in eco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-228600" y="1218960"/>
            <a:ext cx="4495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nts are called producers because they produce  carbohydrates from carbon dioxide, water, and the Sun’s ener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umers get their energy by feeding on producers or other consum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omposition is the breakdown of wastes and dead organism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organisms called decomposers through the process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degrad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media-2.web.britannica.com/eb-media/47/6547-004-81B9888F.gif"/>
          <p:cNvPicPr/>
          <p:nvPr/>
        </p:nvPicPr>
        <p:blipFill>
          <a:blip r:embed="rId1"/>
          <a:stretch/>
        </p:blipFill>
        <p:spPr>
          <a:xfrm>
            <a:off x="4457880" y="1219320"/>
            <a:ext cx="4457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3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nergy Flow and Energy Loss in Ecosystems:  Food Chai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160" y="2057400"/>
            <a:ext cx="4647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entists use different methods to represent energy moving through ecosyst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od ch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od we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od pyram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43434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world-builders.org/lessons/less/biomes/conifers/conif-for/tempfchain.gif"/>
          <p:cNvPicPr/>
          <p:nvPr/>
        </p:nvPicPr>
        <p:blipFill>
          <a:blip r:embed="rId1"/>
          <a:stretch/>
        </p:blipFill>
        <p:spPr>
          <a:xfrm>
            <a:off x="1676520" y="0"/>
            <a:ext cx="609588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Food Chains and Food We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447920"/>
            <a:ext cx="541008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od chains show the flow o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ergy in an ecosyste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ch step in a food chain is a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ophic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ducers = 1st trophic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mary consumers = 2nd trophic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ary consumers = 3rd trophic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rtiary consumers = 4th trophic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9"/>
          <p:cNvGrpSpPr/>
          <p:nvPr/>
        </p:nvGrpSpPr>
        <p:grpSpPr>
          <a:xfrm>
            <a:off x="5398920" y="2209680"/>
            <a:ext cx="3745080" cy="3760560"/>
            <a:chOff x="5398920" y="2209680"/>
            <a:chExt cx="3745080" cy="3760560"/>
          </a:xfrm>
        </p:grpSpPr>
        <p:pic>
          <p:nvPicPr>
            <p:cNvPr id="55" name="Picture 7" descr=""/>
            <p:cNvPicPr/>
            <p:nvPr/>
          </p:nvPicPr>
          <p:blipFill>
            <a:blip r:embed="rId1"/>
            <a:stretch/>
          </p:blipFill>
          <p:spPr>
            <a:xfrm>
              <a:off x="5398920" y="2531880"/>
              <a:ext cx="3745080" cy="33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6"/>
            <p:cNvSpPr/>
            <p:nvPr/>
          </p:nvSpPr>
          <p:spPr>
            <a:xfrm>
              <a:off x="5553000" y="2228760"/>
              <a:ext cx="339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0d5613"/>
                  </a:solidFill>
                  <a:latin typeface="Calibri"/>
                </a:rPr>
                <a:t>Examples of terrestrial and aquatic food chai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5429160" y="2209680"/>
              <a:ext cx="3670200" cy="376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nergy Flow and Energy Loss in Ecosystems: Food Chai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238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sumers in a food chain can be classified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rivores – consumers that obtain energy and nutrients from dead organisms and waste ma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8400" indent="-381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s include earthworms, bacteria and fung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8400" indent="-381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rivores feed at every trophic lev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8400" indent="-381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rivores have their own, separate food chai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8400" indent="-381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are very numero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hifzaila.files.wordpress.com/2008/08/earthworms.jpg"/>
          <p:cNvPicPr/>
          <p:nvPr/>
        </p:nvPicPr>
        <p:blipFill>
          <a:blip r:embed="rId1"/>
          <a:stretch/>
        </p:blipFill>
        <p:spPr>
          <a:xfrm>
            <a:off x="228600" y="45720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://productinspiration.com/wp-content/uploads/2008/04/bacteria5.jpg1f2cfe32-b8c8-4f65-9e77-560f98ca8c12large.jpg"/>
          <p:cNvPicPr/>
          <p:nvPr/>
        </p:nvPicPr>
        <p:blipFill>
          <a:blip r:embed="rId2"/>
          <a:stretch/>
        </p:blipFill>
        <p:spPr>
          <a:xfrm>
            <a:off x="3352680" y="42670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images.wildmadagascar.org/pictures/masoala/fungi0012.jpg"/>
          <p:cNvPicPr/>
          <p:nvPr/>
        </p:nvPicPr>
        <p:blipFill>
          <a:blip r:embed="rId3"/>
          <a:stretch/>
        </p:blipFill>
        <p:spPr>
          <a:xfrm>
            <a:off x="6172200" y="4495680"/>
            <a:ext cx="251460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3808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745560" indent="-338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Herbivores – primary consu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1960" indent="-339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bivores eat plants (producers) on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5560" indent="-338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Carnivores – secondary or tertiary consu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1960" indent="-339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ary consumers eat non-producers, suc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herbiv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1960" indent="-339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tiary consumers eat secondary consum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10640" indent="-338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called top consumers or top carniv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5560" indent="-338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Omnivores – consumers that eat both plants and ani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1960" indent="-339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s include humans and bea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www.canadiangeographic.ca/atlas/Images/Glossary/Herbivore.jpg"/>
          <p:cNvPicPr/>
          <p:nvPr/>
        </p:nvPicPr>
        <p:blipFill>
          <a:blip r:embed="rId1"/>
          <a:stretch/>
        </p:blipFill>
        <p:spPr>
          <a:xfrm>
            <a:off x="152280" y="4971960"/>
            <a:ext cx="2362320" cy="1714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www.jamsbphotos.co.uk/USERIMAGES/Carnivore(1).jpg"/>
          <p:cNvPicPr/>
          <p:nvPr/>
        </p:nvPicPr>
        <p:blipFill>
          <a:blip r:embed="rId2"/>
          <a:stretch/>
        </p:blipFill>
        <p:spPr>
          <a:xfrm>
            <a:off x="2971800" y="4876920"/>
            <a:ext cx="2438280" cy="1830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://www.ontariobearhunting.ca/sscimages/animals/bear/BlackBear1_1.jpg"/>
          <p:cNvPicPr/>
          <p:nvPr/>
        </p:nvPicPr>
        <p:blipFill>
          <a:blip r:embed="rId3"/>
          <a:stretch/>
        </p:blipFill>
        <p:spPr>
          <a:xfrm>
            <a:off x="5867280" y="4800600"/>
            <a:ext cx="283212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nergy Flow and Energy Loss in Ecosystems:Food Web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28600" y="1523520"/>
            <a:ext cx="8610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rganisms are part of many food cha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od webs represent interconnected food chai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od webs are models of the feeding relationships in an ecosyste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rrows in a food web represent the flow of energy and nutrie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llowing the arrows leads to the top carnivore(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4T05:44:03Z</dcterms:created>
  <dc:creator>SD23-User</dc:creator>
  <dc:description/>
  <dc:language>en-US</dc:language>
  <cp:lastModifiedBy>Kidd</cp:lastModifiedBy>
  <dcterms:modified xsi:type="dcterms:W3CDTF">2012-09-18T05:26:03Z</dcterms:modified>
  <cp:revision>4</cp:revision>
  <dc:subject/>
  <dc:title>2.1 – Energy Flow in Ecosystems</dc:title>
</cp:coreProperties>
</file>